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357-BDAF-4668-8C73-7D5F60A3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355-A9CD-484D-9F68-EA728351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93C-B207-4E2F-BEA7-5A74D401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082-CFC3-42F3-8B9E-FB2B2099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D99-6C04-4AF0-916A-66868DB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2EC-805F-4414-B1BD-770593B5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9AC-9320-466F-9A2C-477D08A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F3D-77CD-4510-AFD8-4935195A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47E-938D-4D2B-82CF-A637B3A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E56-D4FF-4D8C-AD68-E93565E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8A8-981D-48AF-B1B2-8A6E75E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118-A6E1-40E7-9608-83E3649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EA2E-7860-4082-91A2-AE65E390C2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there be enough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ondon20121"/>
          <p:cNvPicPr/>
          <p:nvPr/>
        </p:nvPicPr>
        <p:blipFill>
          <a:blip r:embed="rId1"/>
          <a:stretch/>
        </p:blipFill>
        <p:spPr>
          <a:xfrm>
            <a:off x="1403280" y="-316080"/>
            <a:ext cx="5716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851280" y="2349360"/>
            <a:ext cx="2016000" cy="215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92360" y="2349360"/>
            <a:ext cx="2016000" cy="215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2700360" y="2349360"/>
            <a:ext cx="2303280" cy="215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059280" y="19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 rot="5400000">
            <a:off x="2254320" y="28656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2200320" y="32079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708000" y="2492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2843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5940360" y="549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 = 90mx70m=6300m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036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2=4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01200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300m2x4=2520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H="1">
            <a:off x="4643280" y="1268280"/>
            <a:ext cx="115272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333360"/>
            <a:ext cx="30974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940360" y="3933720"/>
            <a:ext cx="302436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156360" y="40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meter= 70m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156360" y="44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pi = 109.9557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084720" y="4941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pix2=219.91148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6084720" y="5516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19.9114858x4m=879.6459432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0"/>
          <p:cNvSpPr/>
          <p:nvPr/>
        </p:nvSpPr>
        <p:spPr>
          <a:xfrm flipH="1" flipV="1">
            <a:off x="5508720" y="371592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1"/>
          <p:cNvSpPr/>
          <p:nvPr/>
        </p:nvSpPr>
        <p:spPr>
          <a:xfrm flipH="1" flipV="1">
            <a:off x="2411280" y="4076640"/>
            <a:ext cx="36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39640" y="4869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200 + 879= 26079 = max  amount of people in sta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95280" y="4581360"/>
            <a:ext cx="2448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395280" y="260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Y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Members_of_Team_USA_during_2008_Summer_Olympics_opening_ceremony"/>
          <p:cNvPicPr/>
          <p:nvPr/>
        </p:nvPicPr>
        <p:blipFill>
          <a:blip r:embed="rId1"/>
          <a:stretch/>
        </p:blipFill>
        <p:spPr>
          <a:xfrm>
            <a:off x="0" y="0"/>
            <a:ext cx="1028232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Arial"/>
              </a:rPr>
              <a:t>EVERYONE WILL FI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smiley-face"/>
          <p:cNvPicPr/>
          <p:nvPr/>
        </p:nvPicPr>
        <p:blipFill>
          <a:blip r:embed="rId2"/>
          <a:stretch/>
        </p:blipFill>
        <p:spPr>
          <a:xfrm>
            <a:off x="0" y="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smiley-face"/>
          <p:cNvPicPr/>
          <p:nvPr/>
        </p:nvPicPr>
        <p:blipFill>
          <a:blip r:embed="rId3"/>
          <a:stretch/>
        </p:blipFill>
        <p:spPr>
          <a:xfrm>
            <a:off x="7513560" y="0"/>
            <a:ext cx="1630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40:52Z</dcterms:created>
  <dc:creator>livingstona</dc:creator>
  <dc:description/>
  <dc:language>en-US</dc:language>
  <cp:lastModifiedBy> </cp:lastModifiedBy>
  <dcterms:modified xsi:type="dcterms:W3CDTF">2010-06-12T11:54:26Z</dcterms:modified>
  <cp:revision>2</cp:revision>
  <dc:subject/>
  <dc:title> </dc:title>
</cp:coreProperties>
</file>